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1520-50C4-4130-A4E2-58AC877E8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9AF2-D91F-4E2E-BFB0-A4160905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E39B-2F85-4EDD-8D74-19DA7F0C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3346-DE6A-4C67-9D65-E9896D3EA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35AAD-B81E-4C3A-87B3-90E61ED23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DE4AB-1893-46D9-9040-0692032A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01B52-73FF-4A4B-838E-EA4302E2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C8662-B7ED-4FF7-BAB6-4AE3D491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9A2CA-5C83-43D0-9905-C4A7728E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ED676-5954-4D0F-9FFB-63D5D3F2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8696D-CC69-4C16-97FD-FDB7DFB0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BDA1-AA4B-4FDE-9C29-560EDCA7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945AA-ACBE-44C2-9051-73EC398A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56CE0-1425-4823-AB9C-AB411212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75A31-E486-49DA-876A-791BEDAF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6A380-8B8A-4510-9571-4EFD24A96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BF6F3-9C42-4459-BAA0-329619A9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1B67-687F-4FF7-92F2-88FB0DAD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3CD8-4DED-48F7-A8CE-8FD17FEF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0F8A-D4F3-4885-9AF5-97E60C83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A025-E47D-4C2D-9A3B-3693A730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E58C-4747-47E0-AA0E-44C19BF6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4127-487D-4217-80F7-243A5676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4EFC-5EA9-4430-9457-1540AD7B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5C08-5BE3-4CF7-8DD8-6C144F59CD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D99E-491D-4BEA-9806-4B6146409A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ependent Reading Se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eck the Posters to see information on our Read 180 Library selection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soon as you rotate to the reading station, get your book and materials and start workin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 sure to use the same book every single time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g all of your information on your DAILY READING LO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urn your materials to the appropriate place when you are finish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mall Group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ring SG, you will build your vocabulary and writing skills as a group, in pairs, and independentl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ing your Folder and rBook to Small Group Instr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ly one person “has the mic” at a time. Do not interrupt or speak over one anothe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will do a great deal of discussion in small group- you must participate! Your opinion is very important and needs to be shared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 the end, stack your rbooks neatly in the middle of the table. Bring your folder and writing utensil with you to the next statio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13:04:16Z</dcterms:created>
  <dc:creator> </dc:creator>
  <dc:description/>
  <dc:language>en-US</dc:language>
  <cp:lastModifiedBy> </cp:lastModifiedBy>
  <dcterms:modified xsi:type="dcterms:W3CDTF">2007-09-13T13:12:26Z</dcterms:modified>
  <cp:revision>1</cp:revision>
  <dc:subject/>
  <dc:title>Independent Reading Section</dc:title>
</cp:coreProperties>
</file>